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9A6-375B-4757-8334-BDA416D3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B81-0C9A-40BF-86BA-1E169585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30A-76D2-4BAA-B764-991DDC32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66B-0A2E-4830-A76B-10AE8732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DB0-1ACA-4DB6-A4EC-4018DE55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C68-09A1-4F48-B498-D742E093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951-F8EE-49D6-8BD6-B0D29110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6E4-DDFF-4403-A351-44CADA8A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E5D-5BE7-486D-B310-BD8C67EC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F52-4584-4416-AB9D-48A7E3BA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CD9-0543-4141-93E6-5EB931E6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D70-382B-4DEC-B923-3CC82E9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4774-91F0-4AD2-8C05-5EF042032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1557360"/>
            <a:ext cx="640872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植树的牧羊人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藁城区第八中学      邢艳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260280"/>
            <a:ext cx="828036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技法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文运用第几人称来叙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样写有什么好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运用第一人称叙事；采用第一人称“我”来讲述种树人的故事，通过“我”的耳闻目睹，所思所想，对种树人的平凡而又伟大的一生做出了高度的评价。“我”在文中仅仅是个过客，在人生的不同阶段，目睹了一个寸草不生的荒僻之地变成森林村庄。“我”作为一个见证人，使种树人的事迹具有极强的纪实性，使种树人的故事显得真实可性，产生了打动人心的力量。另外，“我”并没有和种树人朝夕相处，对种树人的生活了解得并不是非常全面，但是这个地方沧海桑田的巨变却令“我”震撼，这就使得种树人的生活具有神秘感和神圣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26028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上牧羊人之前，作者为什么要描写荒漠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无生气？这样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与后文荒漠变成了绿洲形成鲜明的对比，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出牧羊人的贡献之巨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最后为什么还要写来到这里的居民的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境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通过写居民的精神境界的变化，从侧面衬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牧羊人的贡献之巨大，他不仅改变了荒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还改变了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260280"/>
            <a:ext cx="82803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遇牧羊人：群山荒芜   村庄废弃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泉眼干涸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见牧羊人：树木挺拔   重见溪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一次相见：微风飘香   树木歌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村庄富饶  泉水长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3960" y="858240"/>
            <a:ext cx="115524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牧羊人创造的奇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1773360"/>
            <a:ext cx="73080" cy="2735280"/>
          </a:xfrm>
          <a:custGeom>
            <a:avLst/>
            <a:gdLst>
              <a:gd name="textAreaLeft" fmla="*/ 0 w 73080"/>
              <a:gd name="textAreaRight" fmla="*/ 26280 w 73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260280"/>
            <a:ext cx="828036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直面不幸，勇敢超越，实现人生价值的牧羊人又何止一个人呢？请你再找找身边的“植树的牧羊人”的事迹，并为他写一段颁奖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1052640"/>
            <a:ext cx="741708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年，格桑德吉毕业于河北师范大学，毕业之后她并没有像其他同学一样选择留在大城市工作，而是毅然回到西藏。为了让雅鲁藏布江边、喜马拉雅山脚下的门巴族孩子有学上，格桑德吉放弃拉萨的工作，主动申请到山乡小学教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墨脱县帮辛乡，因常年泥石流、山体滑坡，是墨脱最后一个通公路的乡。为了劝学，格桑德吉天黑走悬崖、在满是泥石流、山体滑坡的道路上频繁往返；为了孩子们不停课，别村缺老师时她不顾六个月身孕、背起糌粑上路；为了把学生平安送到家，每年道路艰险、大雪封山时，格桑德吉过冰河、溜铁索，把四个月才能回一次家的学生们平安送到父母的身边。为了教好孩子们，格桑德吉将自己的女儿从两岁时一直寄养在拉萨的爷爷家，当一年之后格桑德吉再到拉萨的时候，女儿已经不认识她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13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年来，在格桑德吉的努力下，门巴族孩子从最初失学率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30%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，变成到今天入学率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95%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。她教的孩子有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名考上大学、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多名考上大专、中专。村民们亲切地称她为门巴族的“护梦人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1916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颁奖词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不想让乡亲的梦，跌落于悬崖。门巴的女儿执意要回到家乡，坚守在雪山、河流之间。她用一颗心，脉动一群人的心，用一点光，点亮山间更多的灯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96840" y="620640"/>
            <a:ext cx="15217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领悟并学习传神的肖像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学习人物的无私精神和高贵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260280"/>
            <a:ext cx="96123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预习与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给下面加粗的汉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废墟           干涸          坍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戳             酬劳          流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渠          乍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99040" y="1360440"/>
            <a:ext cx="13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xū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47440" y="1360440"/>
            <a:ext cx="13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hé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66320" y="1384200"/>
            <a:ext cx="14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ā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7720" y="2319480"/>
            <a:ext cx="18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u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4960" y="2319480"/>
            <a:ext cx="18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óu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93240" y="2392200"/>
            <a:ext cx="17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ǎng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0040" y="3327480"/>
            <a:ext cx="13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q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1680" y="3327480"/>
            <a:ext cx="15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zhà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8200" y="371520"/>
            <a:ext cx="801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释下面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废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干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坍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溜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刨根问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毛之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8701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城市、村庄遭受破坏或灾害后变成的荒凉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40960" y="1773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河道、池塘等）没有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41960" y="2238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建筑物或堆积物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66440" y="2741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散步，闲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5840" y="3246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追究底细；寻根究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8084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长草木的地方。毛，地面上的植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907920"/>
            <a:ext cx="828036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乔诺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895—19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法国著名作家、电影编剧。作品获奖很多，部分作品被搬上银幕，被认为是法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世纪最著名的作家之一。他的作品风格多样，多半以他的家乡和周边地区——阿尔卑斯山和普罗旺斯地区为背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260280"/>
            <a:ext cx="828036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讲了一个怎样的故事？请你用简洁的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言概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牧羊人用几十年的坚持，不断用双手把荒漠变成绿洲，使万人享受幸福生活的故事，赞美了牧羊人的无私奉献、坚持不懈、勤劳朴实、自信平和、忠厚内敛、认真细致的高贵品质。告诉我们人类有潜藏的智慧和改天换地的能力，只要心存善念必有善报，只要心存美好的愿望并长期不懈地努力去做，人类的可悲命运最终会被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549360"/>
            <a:ext cx="8280360" cy="61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按什么顺序叙事？请按这一顺序划分文章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并概括段落大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按事情发展的先后顺序叙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开门见山点题，交代牧羊人是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慷慨无私、不图回报的好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二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—1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初遇牧羊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3—18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再见牧羊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9—2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最后一次遇牧羊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再次点题，抒发对牧羊人的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佩之情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836640"/>
            <a:ext cx="828036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分别写出“我”前后三次见牧羊人时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的情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初遇牧羊人——群山荒芜，村庄废弃，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眼干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再见牧羊人——树木挺拔，重见溪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最后一次相见——微风飘香，树木歌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村庄富饶，泉水长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260280"/>
            <a:ext cx="828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层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你眼中，牧羊人是个怎样的人呢？请结合文章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他是个吃苦耐劳、无私奉献、坚持不懈、勤劳朴实的人。牧羊人种橡树，不在乎是谁的地，也不在乎能成活多少，也不在意别人知道不知道，一直这样，一个人种着树；他还是一个认真细致、做事一丝不苟的人。从他挑选橡子、房间收拾得整齐、餐具洗得干净等细节可以看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13:38:23Z</dcterms:created>
  <dc:creator>lenovo</dc:creator>
  <dc:description/>
  <dc:language>en-US</dc:language>
  <cp:lastModifiedBy>微软中国</cp:lastModifiedBy>
  <dcterms:modified xsi:type="dcterms:W3CDTF">2018-08-15T13:29:38Z</dcterms:modified>
  <cp:revision>7</cp:revision>
  <dc:subject/>
  <dc:title>幻灯片 1</dc:title>
</cp:coreProperties>
</file>